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622-6B56-49E8-9401-77334704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2F6-24BF-48C8-806C-0FD13192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628-2B9D-439F-8B6E-0878B0C9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213-D600-4F94-827C-FEDBF28E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081-71AE-407D-B1B5-67D1947D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A17-198D-44ED-9D5D-D1F08F79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15D-CCBB-4D96-9CBD-AFA0398C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ECE-43A0-49AE-9EE3-6E8CB962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9E6-92ED-4062-A2AD-471F15FB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9F0-8191-48E9-A7E1-1CDF6728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1B6-B2F6-4A41-965C-9440F71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513-F0D3-4C2A-8A77-665BAD5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6CE7-B4B2-4741-AEC3-F4243FC03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过程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过程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09T07:16:34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71</vt:lpwstr>
  </property>
  <property fmtid="{D5CDD505-2E9C-101B-9397-08002B2CF9AE}" pid="3" name="Version">
    <vt:r8>1</vt:r8>
  </property>
</Properties>
</file>