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2EE-339F-413E-84C7-EE8CBC3A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B0A-E709-470E-B9F5-BF2D579A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6CA-417D-4B4A-9F13-16EACE0A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93A-7835-45B1-9DF0-EE38ACC2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A0D-15FE-43B7-B6A4-FD669D8E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09E-3F71-4184-B8DD-A09559D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CAF-B3D7-4705-8D23-15ED64FF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921-C0DA-4441-9541-E5F8C4DB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C94-F6A2-4F4A-A255-CE46AF59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199-334F-45CC-876F-207D922B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CC6-C18E-43D7-80C1-353FB7AE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9B4-8A98-4C76-A3FB-23999D3C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72D2-7DDE-4269-AB00-037A1A178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过程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过程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09T07:16:34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71</vt:lpwstr>
  </property>
  <property fmtid="{D5CDD505-2E9C-101B-9397-08002B2CF9AE}" pid="3" name="Version">
    <vt:r8>1</vt:r8>
  </property>
</Properties>
</file>