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4C370-2741-4858-AC33-82E2F6C1C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44AA8-1B16-4EAA-BB89-CB943E691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07A5D-7235-4EB8-9370-D35FBB74A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592B3-94AF-42EE-BE3D-012DF157D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4430B-8D48-4F1E-BD84-C6478A304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B6230-7991-45B2-BF98-73D37368F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0B677-3647-48C5-A4A1-C0432E268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E784F-AFE5-4644-A372-5FD9CA96B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5DBFD-CC4E-4309-904A-38950E222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1126A-471D-4BC2-93EA-7B79B4A2D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42AE9-F4D9-4DAD-8275-3565A5243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83200-7FEF-4C3C-8B96-9C6E19F63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89711-53BD-4121-8A5B-46D194F1DB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914040" y="838080"/>
            <a:ext cx="73422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XXXX</a:t>
            </a:r>
            <a:r>
              <a:rPr b="1" lang="zh-CN" sz="3600" spc="-1" strike="noStrike">
                <a:solidFill>
                  <a:srgbClr val="808080"/>
                </a:solidFill>
                <a:latin typeface="黑体"/>
                <a:ea typeface="黑体"/>
              </a:rPr>
              <a:t>（项目名称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验收汇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任  务  来  源：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承  担  单  位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项 目 负责人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汇     报    人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XXX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说 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该模板列出了汇报的主要内容和逻辑结构，供汇报单位参考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汇报中具体所使用的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PT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外观、配色、大小等请汇报单位根据自身情况进行编制；要求简洁、清晰、美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汇报单位应根据汇报时间的控制要求，简明扼要突出重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汇报内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项目概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项目实施过程概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成果报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问题及建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一、项目概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立项背景及目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主要研究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考核的主要指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二、项目实施过程概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研究方案与技术路线（整体工作思路，主要采取的研究方法、手段、工具等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项目实施进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三、成果报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项目完成情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成果介绍，包括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技术关键、主要技术经济指标等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创新点、与国内外同类技术、成果的比较和获奖情况等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成果推广应用前景及经济、社会效益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四、问题及建议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存在问题及有关建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371600" y="2136600"/>
            <a:ext cx="6323040" cy="23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汇报完毕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  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谢谢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0-12-09T07:16:34Z</dcterms:modified>
  <cp:revision>36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671</vt:lpwstr>
  </property>
  <property fmtid="{D5CDD505-2E9C-101B-9397-08002B2CF9AE}" pid="3" name="Version">
    <vt:r8>1</vt:r8>
  </property>
</Properties>
</file>