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C243-5A65-4B90-9987-055E1B323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6AF7-2B6C-492C-A572-7F2B1A96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5BBB-72BA-47E2-B978-0960A7078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E1DE-1C93-4D66-9B70-D8D67E43C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FAA8-19AA-4CA6-8B1A-3DF1986A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61BD-8330-4569-9F7F-72C58ADC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8836-CCF0-46A3-94E2-70E23824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A347-1FB3-4545-B88E-F4A19469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7391-17EB-4B8C-8A7C-E8482401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1FBC-2671-4E05-9E8E-D8316C4E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7741-8375-4E42-9227-ADE9BC70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7EE0-93AD-4705-BA49-02E961B9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3DB5-F063-41F6-A5AF-F72460871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14040" y="838080"/>
            <a:ext cx="73422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XXXX</a:t>
            </a:r>
            <a:r>
              <a:rPr b="1" lang="zh-CN" sz="3600" spc="-1" strike="noStrike">
                <a:solidFill>
                  <a:srgbClr val="808080"/>
                </a:solidFill>
                <a:latin typeface="黑体"/>
                <a:ea typeface="黑体"/>
              </a:rPr>
              <a:t>（项目名称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验收汇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任  务  来  源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承  担  单  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项 目 负责人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汇     报    人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XX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 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模板列出了汇报的主要内容和逻辑结构，供汇报单位参考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汇报中具体所使用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P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观、配色、大小等请汇报单位根据自身情况进行编制；要求简洁、清晰、美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汇报单位应根据汇报时间的控制要求，简明扼要突出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汇报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项目概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项目实施过程概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成果报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问题及建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、项目概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项背景及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研究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考核的主要指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二、项目实施过程概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研究方案与技术路线（整体工作思路，主要采取的研究方法、手段、工具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项目实施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三、成果报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项目完成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成果介绍，包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技术关键、主要技术经济指标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创新点、与国内外同类技术、成果的比较和获奖情况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成果推广应用前景及经济、社会效益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四、问题及建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存在问题及有关建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371600" y="2136600"/>
            <a:ext cx="632304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汇报完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谢谢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12-09T07:16:34Z</dcterms:modified>
  <cp:revision>3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71</vt:lpwstr>
  </property>
  <property fmtid="{D5CDD505-2E9C-101B-9397-08002B2CF9AE}" pid="3" name="Version">
    <vt:r8>1</vt:r8>
  </property>
</Properties>
</file>