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762-6694-4632-8DB0-9DAF52F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D1E-D870-4825-A5EB-9721258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090-EC5A-4AD8-A82A-4BCF35B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824-61C0-4935-B2EC-F53A9326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5FD-DA31-4AA3-80E8-4644302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A8F-E6EC-4D6F-8BE7-F9BA06C6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41C-4410-4578-A8EE-CF20E711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8F5-4028-4D98-950C-8A82965C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93D-7992-44AE-A2B5-25FF3E7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5CF-6398-4800-9CBA-67074B3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9FD-4044-4DD4-8CB1-D5378AB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AB9-C5DF-4137-842F-E945D59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AEB-03BC-497C-BAC0-74FDABBFF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附件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费使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情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79250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4038480"/>
          <a:ext cx="7696080" cy="18590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项目考核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指标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经费使用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简要描述项目经费使用情况（根据任务约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此处插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经费决算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1265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03:24:23Z</dcterms:created>
  <dc:creator/>
  <dc:description/>
  <dc:language>en-US</dc:language>
  <cp:lastModifiedBy>然</cp:lastModifiedBy>
  <dcterms:modified xsi:type="dcterms:W3CDTF">2018-03-15T01:10:35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KSORubyTemplateID">
    <vt:lpwstr>2</vt:lpwstr>
  </property>
  <property fmtid="{D5CDD505-2E9C-101B-9397-08002B2CF9AE}" pid="4" name="Version">
    <vt:r8>1</vt:r8>
  </property>
</Properties>
</file>